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DE9-9836-4C2E-818B-37901E09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63B-B40A-4A20-BE06-9226300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13C-4009-42D9-8B5A-CB583D16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3C2-C335-4F19-BE33-8CA62233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E2C0-6179-4D77-B2F1-6065084A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8006-8755-4956-9EC9-AFD5F92B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0844-6F7A-4EC8-AB86-8E51ECF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B12-A704-42B1-BCA9-537BA06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F516-94AD-421F-9652-FE4077C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316D-3BF3-49B3-980D-FFBD71B9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6E4B-3195-4168-903E-C56664D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3E9-A5E9-4EE4-988D-EBFC1968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CC26-2FD0-4833-82B8-7E56EE84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D06-3C05-4E6A-A6F1-0CA1041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8A5D-536D-45EB-875B-51DC28E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CB21-6681-42DB-91EE-40612823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F39-300D-4F4C-9D32-D8EC6D87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F01-954D-4FF4-973D-AAC57729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903-87D1-4602-B8F9-C61C7065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F56-B1DD-4348-A576-D564DAA0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45E-D09D-4777-8FA9-D98FC63E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3D7-5AE5-4130-829F-0536B796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EFD-C4C5-4F16-829B-07B77BC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062-3AF1-446F-A35B-05926FE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B92E-F625-415D-A11F-BB2195115D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5328-DDF6-4E1C-98A7-E3C641CA33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1055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 0.1 M solution has a pH of 11.1 and is therefore fairly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3735360"/>
            <a:ext cx="7769160" cy="4113360"/>
            <a:chOff x="685800" y="3735360"/>
            <a:chExt cx="7769160" cy="4113360"/>
          </a:xfrm>
        </p:grpSpPr>
        <p:sp>
          <p:nvSpPr>
            <p:cNvPr id="96" name=""/>
            <p:cNvSpPr/>
            <p:nvPr/>
          </p:nvSpPr>
          <p:spPr>
            <a:xfrm>
              <a:off x="685800" y="3735360"/>
              <a:ext cx="776916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Consider a solution of sodium cyanide, NaC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491840" y="4411800"/>
                  <a:ext cx="60512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aCN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O    </m:t>
                          </m:r>
                        </m:e>
                      </m:acc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N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5BB-D88F-4A83-A00E-8A307B92882A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you predict whether a particular salt will be acidic, basic, or neut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89040" y="3278160"/>
            <a:ext cx="77691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ne the other hand,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ions of strong acids (good proton donors) have virtually no basic character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that is, they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do not hydrolyz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9040" y="4573440"/>
            <a:ext cx="7769160" cy="3884760"/>
            <a:chOff x="689040" y="4573440"/>
            <a:chExt cx="7769160" cy="3884760"/>
          </a:xfrm>
        </p:grpSpPr>
        <p:sp>
          <p:nvSpPr>
            <p:cNvPr id="158" name=""/>
            <p:cNvSpPr/>
            <p:nvPr/>
          </p:nvSpPr>
          <p:spPr>
            <a:xfrm>
              <a:off x="689040" y="4573440"/>
              <a:ext cx="7769160" cy="38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or example, the Cl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ion, which is conjugate to the strong acid HCl, shows no appreciable reaction with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479240" y="5940720"/>
                  <a:ext cx="5914800" cy="54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l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no reactio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40C-2081-479F-8280-F5FC3BF7FD58}" type="slidenum">
              <a:t>10</a:t>
            </a:fld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you predict whether a particular salt will be acidic, basic, or neut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3544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onversely,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cations of weak bases are acidic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9040" y="4268880"/>
            <a:ext cx="7769160" cy="4113000"/>
            <a:chOff x="689040" y="4268880"/>
            <a:chExt cx="7769160" cy="4113000"/>
          </a:xfrm>
        </p:grpSpPr>
        <p:sp>
          <p:nvSpPr>
            <p:cNvPr id="164" name=""/>
            <p:cNvSpPr/>
            <p:nvPr/>
          </p:nvSpPr>
          <p:spPr>
            <a:xfrm>
              <a:off x="689040" y="4268880"/>
              <a:ext cx="77691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One the other hand, the </a:t>
              </a:r>
              <a:r>
                <a:rPr b="1" lang="en-US" sz="2400" spc="-1" strike="noStrike">
                  <a:solidFill>
                    <a:srgbClr val="376bb4"/>
                  </a:solidFill>
                  <a:latin typeface="Arial"/>
                </a:rPr>
                <a:t>cations of strong bases have virtually no acidic character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, that is, they </a:t>
              </a:r>
              <a:r>
                <a:rPr b="0" lang="en-US" sz="2400" spc="-1" strike="noStrike" u="sng">
                  <a:solidFill>
                    <a:srgbClr val="376bb4"/>
                  </a:solidFill>
                  <a:uFillTx/>
                  <a:latin typeface="Arial"/>
                </a:rPr>
                <a:t>do not hydrolyze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. For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520640" y="5869080"/>
                  <a:ext cx="60256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no reactio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DC2-7273-46E8-9245-B76356815E4A}" type="slidenum">
              <a:t>11</a:t>
            </a:fld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edict the acidity or basicity of a salt, you must examine the acidity or basicity of the ions composing the sa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3544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onsider potassium acetate, K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38080" y="3952800"/>
            <a:ext cx="7361280" cy="1577880"/>
            <a:chOff x="838080" y="3952800"/>
            <a:chExt cx="7361280" cy="1577880"/>
          </a:xfrm>
        </p:grpSpPr>
        <p:sp>
          <p:nvSpPr>
            <p:cNvPr id="170" name=""/>
            <p:cNvSpPr/>
            <p:nvPr/>
          </p:nvSpPr>
          <p:spPr>
            <a:xfrm>
              <a:off x="838080" y="3952800"/>
              <a:ext cx="73612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The potassium ion is the cation of a strong base (KOH) and does not hydrolyz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531800" y="4952880"/>
                  <a:ext cx="584388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no reactio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6AF-5B52-40E9-BC37-0BF7740A0EEA}" type="slidenum">
              <a:t>12</a:t>
            </a:fld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edict the acidity or basicity of a salt, you must examine the acidity or basicity of the ions composing the sal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3544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onsider potassium acetate, K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acetate ion, however, is the anion of a weak acid (HC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) and is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57280" y="4952880"/>
                <a:ext cx="80532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H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730400" y="5181480"/>
            <a:ext cx="756000" cy="136800"/>
            <a:chOff x="4730400" y="5181480"/>
            <a:chExt cx="756000" cy="136800"/>
          </a:xfrm>
        </p:grpSpPr>
        <p:sp>
          <p:nvSpPr>
            <p:cNvPr id="177" name=""/>
            <p:cNvSpPr/>
            <p:nvPr/>
          </p:nvSpPr>
          <p:spPr>
            <a:xfrm>
              <a:off x="4730760" y="51814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730400" y="53182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55560" y="5637240"/>
            <a:ext cx="7840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olution of potassium acetate is predicted to be </a:t>
            </a:r>
            <a:r>
              <a:rPr b="1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asic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670-1C85-4796-BCA6-0BB1A1C29563}" type="slidenum">
              <a:t>13</a:t>
            </a:fld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04880" y="3333600"/>
            <a:ext cx="776916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alt has </a:t>
            </a:r>
            <a:r>
              <a:rPr b="1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no hydrolyzable i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and so gives a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eutral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aqueous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 example is Na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990-D826-4EEE-AF5E-1AE35EBA4FCA}" type="slidenum">
              <a:t>14</a:t>
            </a:fld>
          </a:p>
        </p:txBody>
      </p: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7240" y="3963960"/>
            <a:ext cx="776952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anion of the salt is the conjugate of the weak acid. It hydrolyzes to give a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asic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 example is NaC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9040" y="3354480"/>
            <a:ext cx="776916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1B6-C18E-4BD3-9ED5-A69429B66A27}" type="slidenum">
              <a:t>15</a:t>
            </a:fld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87240" y="4057560"/>
            <a:ext cx="7769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cation of the salt is the conjugate of the weak base. It hydrolyzes to give 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cidic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 example is N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5920"/>
            <a:ext cx="7769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strong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15A-0885-4D0F-ACF6-7EC4AE7104AA}" type="slidenum">
              <a:t>16</a:t>
            </a:fld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rules apply to normal salts (those in which the anion has no acidic hydrog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3943440"/>
            <a:ext cx="8153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Both ions hydrolyze. You must compare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cation with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anio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If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cation is larger the solution is </a:t>
            </a:r>
            <a:r>
              <a:rPr b="1" lang="en-US" sz="2600" spc="-1" strike="noStrike">
                <a:solidFill>
                  <a:srgbClr val="376bb4"/>
                </a:solidFill>
                <a:latin typeface="Arial"/>
              </a:rPr>
              <a:t>acidic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If the K</a:t>
            </a:r>
            <a:r>
              <a:rPr b="0" lang="en-US" sz="26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 of the anion is larger, the solution is </a:t>
            </a:r>
            <a:r>
              <a:rPr b="1" lang="en-US" sz="2600" spc="-1" strike="noStrike">
                <a:solidFill>
                  <a:srgbClr val="376bb4"/>
                </a:solidFill>
                <a:latin typeface="Arial"/>
              </a:rPr>
              <a:t>basic</a:t>
            </a: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360" y="3335400"/>
            <a:ext cx="815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 salt of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bas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nd 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eak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2AE-D414-4ED0-A7E7-605BDD0EA1ED}" type="slidenum">
              <a:t>17</a:t>
            </a:fld>
          </a:p>
        </p:txBody>
      </p:sp>
    </p:spTree>
  </p:cSld>
  <p:transition spd="med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calculate the pH of a salt solution would require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acidic cation or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the basic an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687240" y="3886200"/>
            <a:ext cx="776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ionization constants of ions are not listed directly in tables because the values are easily related to their conjugate 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us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or CN</a:t>
            </a:r>
            <a:r>
              <a:rPr b="1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is related to the K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or HC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9B2-2C68-4B94-A0D7-6BA64F9ECA7A}" type="slidenum">
              <a:t>18</a:t>
            </a:fld>
          </a:p>
        </p:txBody>
      </p:sp>
    </p:spTree>
  </p:cSld>
  <p:transition spd="med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e the relationship betwee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njugate acid-base pairs, consider the acid ionization of HCN and the base ionization of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63680" y="3732120"/>
                <a:ext cx="692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" name=""/>
          <p:cNvGrpSpPr/>
          <p:nvPr/>
        </p:nvGrpSpPr>
        <p:grpSpPr>
          <a:xfrm>
            <a:off x="3484440" y="3963960"/>
            <a:ext cx="557280" cy="100080"/>
            <a:chOff x="3484440" y="3963960"/>
            <a:chExt cx="557280" cy="100080"/>
          </a:xfrm>
        </p:grpSpPr>
        <p:sp>
          <p:nvSpPr>
            <p:cNvPr id="202" name=""/>
            <p:cNvSpPr/>
            <p:nvPr/>
          </p:nvSpPr>
          <p:spPr>
            <a:xfrm>
              <a:off x="3484440" y="396396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484440" y="40640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4680" y="4344840"/>
                <a:ext cx="677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492360" y="4573440"/>
            <a:ext cx="557280" cy="100080"/>
            <a:chOff x="3492360" y="4573440"/>
            <a:chExt cx="557280" cy="100080"/>
          </a:xfrm>
        </p:grpSpPr>
        <p:sp>
          <p:nvSpPr>
            <p:cNvPr id="206" name=""/>
            <p:cNvSpPr/>
            <p:nvPr/>
          </p:nvSpPr>
          <p:spPr>
            <a:xfrm>
              <a:off x="3492360" y="45734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492360" y="46735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735320" y="372888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30640" y="433872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6040" y="3811680"/>
            <a:ext cx="8150760" cy="5941080"/>
            <a:chOff x="536040" y="3811680"/>
            <a:chExt cx="8150760" cy="5941080"/>
          </a:xfrm>
        </p:grpSpPr>
        <p:grpSp>
          <p:nvGrpSpPr>
            <p:cNvPr id="211" name=""/>
            <p:cNvGrpSpPr/>
            <p:nvPr/>
          </p:nvGrpSpPr>
          <p:grpSpPr>
            <a:xfrm>
              <a:off x="612720" y="4878000"/>
              <a:ext cx="8074080" cy="4874760"/>
              <a:chOff x="612720" y="4878000"/>
              <a:chExt cx="8074080" cy="487476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612720" y="4878000"/>
                <a:ext cx="8074080" cy="4874760"/>
                <a:chOff x="612720" y="4878000"/>
                <a:chExt cx="8074080" cy="48747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917280" y="5639760"/>
                  <a:ext cx="7769520" cy="41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lvl="1" marL="743040" indent="-28584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cbd990"/>
                    </a:buClr>
                    <a:buFont typeface="Arial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76bb4"/>
                      </a:solidFill>
                      <a:latin typeface="Arial"/>
                    </a:rPr>
                    <a:t>When these two reactions are added you get the </a:t>
                  </a:r>
                  <a:r>
                    <a:rPr b="1" lang="en-US" sz="2400" spc="-1" strike="noStrike">
                      <a:solidFill>
                        <a:srgbClr val="376bb4"/>
                      </a:solidFill>
                      <a:latin typeface="Arial"/>
                    </a:rPr>
                    <a:t>ionization of water</a:t>
                  </a:r>
                  <a:r>
                    <a:rPr b="0" lang="en-US" sz="2400" spc="-1" strike="noStrike">
                      <a:solidFill>
                        <a:srgbClr val="376bb4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743040" indent="-28584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4" name=""/>
                    <p:cNvSpPr txBox="1"/>
                    <p:nvPr/>
                  </p:nvSpPr>
                  <p:spPr>
                    <a:xfrm>
                      <a:off x="2090520" y="5092200"/>
                      <a:ext cx="5380200" cy="47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O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H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5" name=""/>
                <p:cNvSpPr/>
                <p:nvPr/>
              </p:nvSpPr>
              <p:spPr>
                <a:xfrm>
                  <a:off x="612720" y="4878000"/>
                  <a:ext cx="800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0800" y="5044320"/>
                  <a:ext cx="6044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9900"/>
                      </a:solidFill>
                      <a:latin typeface="Times New Roman"/>
                    </a:rPr>
                    <a:t>K</a:t>
                  </a:r>
                  <a:r>
                    <a:rPr b="1" lang="en-US" sz="2800" spc="-1" strike="noStrike" baseline="-25000">
                      <a:solidFill>
                        <a:srgbClr val="ff9900"/>
                      </a:solidFill>
                      <a:latin typeface="Times New Roman"/>
                    </a:rPr>
                    <a:t>w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84440" y="5323680"/>
                <a:ext cx="557280" cy="99720"/>
                <a:chOff x="3484440" y="5323680"/>
                <a:chExt cx="557280" cy="9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84440" y="5323680"/>
                  <a:ext cx="55728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3484440" y="5423400"/>
                  <a:ext cx="55728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 flipH="1">
              <a:off x="536040" y="381168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040" y="442080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022440" y="381168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193640" y="4420800"/>
              <a:ext cx="6858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AB4-01A3-440D-9FA3-858A9D08E6CE}" type="slidenum">
              <a:t>19</a:t>
            </a:fld>
          </a:p>
        </p:txBody>
      </p:sp>
    </p:spTree>
  </p:cSld>
  <p:transition spd="med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04880" y="38116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Sodium ion, Na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is unreactive with water, but the cyanide ion, CN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reacts to produce HCN and OH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2960" y="5364000"/>
                <a:ext cx="783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4009680" y="5608800"/>
            <a:ext cx="756000" cy="136440"/>
            <a:chOff x="4009680" y="5608800"/>
            <a:chExt cx="756000" cy="136440"/>
          </a:xfrm>
        </p:grpSpPr>
        <p:sp>
          <p:nvSpPr>
            <p:cNvPr id="102" name=""/>
            <p:cNvSpPr/>
            <p:nvPr/>
          </p:nvSpPr>
          <p:spPr>
            <a:xfrm>
              <a:off x="4010040" y="560880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009680" y="574524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711-C1A5-4989-85C2-B757EB48536B}" type="slidenum">
              <a:t>2</a:t>
            </a:fld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e the relationship betwee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njugate acid-base pairs, consider the acid ionization of HCN and the base ionization of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44600" y="3732120"/>
                <a:ext cx="692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" name=""/>
          <p:cNvGrpSpPr/>
          <p:nvPr/>
        </p:nvGrpSpPr>
        <p:grpSpPr>
          <a:xfrm>
            <a:off x="3465360" y="3963960"/>
            <a:ext cx="557280" cy="100080"/>
            <a:chOff x="3465360" y="3963960"/>
            <a:chExt cx="557280" cy="100080"/>
          </a:xfrm>
        </p:grpSpPr>
        <p:sp>
          <p:nvSpPr>
            <p:cNvPr id="228" name=""/>
            <p:cNvSpPr/>
            <p:nvPr/>
          </p:nvSpPr>
          <p:spPr>
            <a:xfrm>
              <a:off x="3465360" y="396396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465360" y="40640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8360" y="4344840"/>
                <a:ext cx="677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1" name=""/>
          <p:cNvGrpSpPr/>
          <p:nvPr/>
        </p:nvGrpSpPr>
        <p:grpSpPr>
          <a:xfrm>
            <a:off x="3473280" y="4573440"/>
            <a:ext cx="557280" cy="100080"/>
            <a:chOff x="3473280" y="4573440"/>
            <a:chExt cx="557280" cy="100080"/>
          </a:xfrm>
        </p:grpSpPr>
        <p:sp>
          <p:nvSpPr>
            <p:cNvPr id="232" name=""/>
            <p:cNvSpPr/>
            <p:nvPr/>
          </p:nvSpPr>
          <p:spPr>
            <a:xfrm>
              <a:off x="3473280" y="45734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73280" y="46735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176640" y="4941720"/>
            <a:ext cx="557280" cy="100080"/>
            <a:chOff x="3176640" y="4941720"/>
            <a:chExt cx="557280" cy="100080"/>
          </a:xfrm>
        </p:grpSpPr>
        <p:sp>
          <p:nvSpPr>
            <p:cNvPr id="235" name=""/>
            <p:cNvSpPr/>
            <p:nvPr/>
          </p:nvSpPr>
          <p:spPr>
            <a:xfrm>
              <a:off x="3176640" y="49417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176640" y="504180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966800" y="373536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62480" y="434484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93640" y="4878360"/>
            <a:ext cx="8074080" cy="4874760"/>
            <a:chOff x="593640" y="4878360"/>
            <a:chExt cx="8074080" cy="4874760"/>
          </a:xfrm>
        </p:grpSpPr>
        <p:sp>
          <p:nvSpPr>
            <p:cNvPr id="240" name=""/>
            <p:cNvSpPr/>
            <p:nvPr/>
          </p:nvSpPr>
          <p:spPr>
            <a:xfrm>
              <a:off x="898200" y="564012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When two reactions are added, their </a:t>
              </a:r>
              <a:r>
                <a:rPr b="1" lang="en-US" sz="2400" spc="-1" strike="noStrike">
                  <a:solidFill>
                    <a:srgbClr val="376bb4"/>
                  </a:solidFill>
                  <a:latin typeface="Arial"/>
                </a:rPr>
                <a:t>equilibrium constants are multiplied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071440" y="5092560"/>
                  <a:ext cx="538020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593640" y="48783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1720" y="5044680"/>
              <a:ext cx="60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>
            <a:off x="456840" y="38098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56840" y="44197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943240" y="38098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114440" y="44197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9D8-31DF-4A67-A767-B40CC746C3F3}" type="slidenum">
              <a:t>20</a:t>
            </a:fld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e the relationship between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conjugate acid-base pairs, consider the acid ionization of HCN and the base ionization of 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3680" y="3751200"/>
                <a:ext cx="6921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3484440" y="3983040"/>
            <a:ext cx="557280" cy="100080"/>
            <a:chOff x="3484440" y="3983040"/>
            <a:chExt cx="557280" cy="100080"/>
          </a:xfrm>
        </p:grpSpPr>
        <p:sp>
          <p:nvSpPr>
            <p:cNvPr id="252" name=""/>
            <p:cNvSpPr/>
            <p:nvPr/>
          </p:nvSpPr>
          <p:spPr>
            <a:xfrm>
              <a:off x="3484440" y="398304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84440" y="40831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44680" y="4363920"/>
                <a:ext cx="6773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3492360" y="4592520"/>
            <a:ext cx="557280" cy="100080"/>
            <a:chOff x="3492360" y="4592520"/>
            <a:chExt cx="557280" cy="100080"/>
          </a:xfrm>
        </p:grpSpPr>
        <p:sp>
          <p:nvSpPr>
            <p:cNvPr id="256" name=""/>
            <p:cNvSpPr/>
            <p:nvPr/>
          </p:nvSpPr>
          <p:spPr>
            <a:xfrm>
              <a:off x="3492360" y="459252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92360" y="469260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00280" y="5310360"/>
            <a:ext cx="557280" cy="99720"/>
            <a:chOff x="3500280" y="5310360"/>
            <a:chExt cx="557280" cy="99720"/>
          </a:xfrm>
        </p:grpSpPr>
        <p:sp>
          <p:nvSpPr>
            <p:cNvPr id="259" name=""/>
            <p:cNvSpPr/>
            <p:nvPr/>
          </p:nvSpPr>
          <p:spPr>
            <a:xfrm>
              <a:off x="3500280" y="531036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500280" y="5410080"/>
              <a:ext cx="55728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8043120" y="3754440"/>
            <a:ext cx="56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38440" y="436392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12720" y="4897440"/>
            <a:ext cx="8074080" cy="4874760"/>
            <a:chOff x="612720" y="4897440"/>
            <a:chExt cx="8074080" cy="4874760"/>
          </a:xfrm>
        </p:grpSpPr>
        <p:sp>
          <p:nvSpPr>
            <p:cNvPr id="264" name=""/>
            <p:cNvSpPr/>
            <p:nvPr/>
          </p:nvSpPr>
          <p:spPr>
            <a:xfrm>
              <a:off x="917280" y="565920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Therefor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2090520" y="5111640"/>
                  <a:ext cx="538020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"/>
            <p:cNvSpPr/>
            <p:nvPr/>
          </p:nvSpPr>
          <p:spPr>
            <a:xfrm>
              <a:off x="612720" y="489744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20800" y="5063760"/>
              <a:ext cx="604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03440" y="5905440"/>
                <a:ext cx="3225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 flipH="1">
            <a:off x="533160" y="384804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33160" y="445788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019560" y="384804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190760" y="445788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E9F-862B-4264-9CEF-5089A5B9264B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he pH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olution of a salt in whic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nly one ion hydrolyzes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calculation of equilibrium composition follows that of weak acids and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38116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only difference is first obtaining the K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or K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for the ion that hydrolyz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next example illustrates the reasoning and calculations inv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CE5-9EA5-43DD-80F0-318BE10F59E8}" type="slidenum">
              <a:t>22</a:t>
            </a:fld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89040" y="38116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From the B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nsted-Lowry point of view, the CN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on acts as a base, because it accepts a proton from 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62040" y="5364000"/>
                <a:ext cx="783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028760" y="5608800"/>
            <a:ext cx="756000" cy="136440"/>
            <a:chOff x="4028760" y="5608800"/>
            <a:chExt cx="756000" cy="136440"/>
          </a:xfrm>
        </p:grpSpPr>
        <p:sp>
          <p:nvSpPr>
            <p:cNvPr id="109" name=""/>
            <p:cNvSpPr/>
            <p:nvPr/>
          </p:nvSpPr>
          <p:spPr>
            <a:xfrm>
              <a:off x="4029120" y="560880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028760" y="574524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86E-5C3B-451D-939A-B6217BF33301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successes of the Brønsted-Lowry concept of acids and bases was in pointing out that so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ons can act as acids or ba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735360"/>
            <a:ext cx="80010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can also see that OH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on is a product, so you would expect the solution to have a basic pH. This explains why NaCN solutions are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5600" y="4952880"/>
                <a:ext cx="7834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rPr>
                        <m:lit/>
                        <m:nor/>
                      </m:rPr>
                      <m:t xml:space="preserve">HC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892320" y="5197320"/>
            <a:ext cx="756000" cy="136800"/>
            <a:chOff x="3892320" y="5197320"/>
            <a:chExt cx="756000" cy="136800"/>
          </a:xfrm>
        </p:grpSpPr>
        <p:sp>
          <p:nvSpPr>
            <p:cNvPr id="116" name=""/>
            <p:cNvSpPr/>
            <p:nvPr/>
          </p:nvSpPr>
          <p:spPr>
            <a:xfrm>
              <a:off x="3892680" y="51973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892320" y="53341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5562720"/>
            <a:ext cx="8001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reaction of the CN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on with water is referred to as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hydrolysi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of CN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151-E5D1-4E91-8B2F-51657E37F89E}" type="slidenum">
              <a:t>4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5600" y="3884760"/>
            <a:ext cx="8084880" cy="4113000"/>
            <a:chOff x="525600" y="3884760"/>
            <a:chExt cx="8084880" cy="4113000"/>
          </a:xfrm>
        </p:grpSpPr>
        <p:sp>
          <p:nvSpPr>
            <p:cNvPr id="122" name=""/>
            <p:cNvSpPr/>
            <p:nvPr/>
          </p:nvSpPr>
          <p:spPr>
            <a:xfrm>
              <a:off x="609480" y="3884760"/>
              <a:ext cx="800100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The CN- ion </a:t>
              </a:r>
              <a:r>
                <a:rPr b="1" lang="en-US" sz="2800" spc="-1" strike="noStrike">
                  <a:solidFill>
                    <a:srgbClr val="376bb4"/>
                  </a:solidFill>
                  <a:latin typeface="Arial"/>
                </a:rPr>
                <a:t>hydrolyzes</a:t>
              </a: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 to give the conjugate acid and hydroxid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525600" y="4944960"/>
                  <a:ext cx="78343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N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r>
                        <m:rPr>
                          <m:lit/>
                          <m:nor/>
                        </m:rPr>
                        <m:t xml:space="preserve">HC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"/>
            <p:cNvGrpSpPr/>
            <p:nvPr/>
          </p:nvGrpSpPr>
          <p:grpSpPr>
            <a:xfrm>
              <a:off x="3892320" y="5197320"/>
              <a:ext cx="756000" cy="136800"/>
              <a:chOff x="3892320" y="5197320"/>
              <a:chExt cx="756000" cy="136800"/>
            </a:xfrm>
          </p:grpSpPr>
          <p:sp>
            <p:nvSpPr>
              <p:cNvPr id="125" name=""/>
              <p:cNvSpPr/>
              <p:nvPr/>
            </p:nvSpPr>
            <p:spPr>
              <a:xfrm>
                <a:off x="3892680" y="519732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892320" y="533412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528-AC97-4AE2-B088-0E81BAC497E4}" type="slidenum">
              <a:t>5</a:t>
            </a:fld>
          </a:p>
        </p:txBody>
      </p:sp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25600" y="3884760"/>
            <a:ext cx="8618400" cy="4113000"/>
            <a:chOff x="525600" y="3884760"/>
            <a:chExt cx="8618400" cy="4113000"/>
          </a:xfrm>
        </p:grpSpPr>
        <p:sp>
          <p:nvSpPr>
            <p:cNvPr id="129" name=""/>
            <p:cNvSpPr/>
            <p:nvPr/>
          </p:nvSpPr>
          <p:spPr>
            <a:xfrm>
              <a:off x="609480" y="3884760"/>
              <a:ext cx="8534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The hydrolysis reaction for CN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has the form of a </a:t>
              </a:r>
              <a:r>
                <a:rPr b="1" lang="en-US" sz="2400" spc="-1" strike="noStrike">
                  <a:solidFill>
                    <a:srgbClr val="376bb4"/>
                  </a:solidFill>
                  <a:latin typeface="Arial"/>
                </a:rPr>
                <a:t>base ionization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so you writ the K</a:t>
              </a:r>
              <a:r>
                <a:rPr b="0" lang="en-US" sz="2400" spc="-1" strike="noStrike" baseline="-25000">
                  <a:solidFill>
                    <a:srgbClr val="376bb4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expression for 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25600" y="4944960"/>
                  <a:ext cx="78343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N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 </m:t>
                      </m:r>
                      <m:r>
                        <m:rPr>
                          <m:lit/>
                          <m:nor/>
                        </m:rPr>
                        <m:t xml:space="preserve">HC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3892320" y="5197320"/>
            <a:ext cx="756000" cy="136800"/>
            <a:chOff x="3892320" y="5197320"/>
            <a:chExt cx="756000" cy="136800"/>
          </a:xfrm>
        </p:grpSpPr>
        <p:sp>
          <p:nvSpPr>
            <p:cNvPr id="132" name=""/>
            <p:cNvSpPr/>
            <p:nvPr/>
          </p:nvSpPr>
          <p:spPr>
            <a:xfrm>
              <a:off x="3892680" y="51973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92320" y="53341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69A-5266-40AA-BECF-F7D990D14629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3884760"/>
            <a:ext cx="8001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N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o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ydrolyze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to the conjugate base (N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and hydronium 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98520" y="4925880"/>
                <a:ext cx="808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892320" y="5181480"/>
            <a:ext cx="756000" cy="136800"/>
            <a:chOff x="3892320" y="5181480"/>
            <a:chExt cx="756000" cy="136800"/>
          </a:xfrm>
        </p:grpSpPr>
        <p:sp>
          <p:nvSpPr>
            <p:cNvPr id="139" name=""/>
            <p:cNvSpPr/>
            <p:nvPr/>
          </p:nvSpPr>
          <p:spPr>
            <a:xfrm>
              <a:off x="3892680" y="51814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892320" y="53182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4FF-0512-4492-B5FF-952F5FF01BF6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3886200"/>
            <a:ext cx="80010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equation has the form of an acid ionization so you write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expression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8520" y="4925880"/>
                <a:ext cx="808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3892320" y="5181480"/>
            <a:ext cx="756000" cy="136800"/>
            <a:chOff x="3892320" y="5181480"/>
            <a:chExt cx="756000" cy="136800"/>
          </a:xfrm>
        </p:grpSpPr>
        <p:sp>
          <p:nvSpPr>
            <p:cNvPr id="146" name=""/>
            <p:cNvSpPr/>
            <p:nvPr/>
          </p:nvSpPr>
          <p:spPr>
            <a:xfrm>
              <a:off x="3892680" y="51814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892320" y="53182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Properties of a Salt Solu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dro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ion is the reaction of an ion with water to produc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acid and hydroxide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jugate base and hydronium 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0CD-91F9-4CA5-8B3F-10D90D766BC8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edicting Whether a Salt is Acidic, Basic, or Neutral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you predict whether a particular salt will be acidic, basic, or neutr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2767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Br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  <a:ea typeface="Times New Roman"/>
              </a:rPr>
              <a:t>ø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sted-Lowry concept illustrates the inverse relationship in the strengths of conjugate acid-base 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6497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onsequently,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 anions of weak acids (poor proton donors) are good proton accep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ions of weak acids therefore, are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4C4-5E2E-45CA-8335-21BF262299DD}" type="slidenum">
              <a:t>9</a:t>
            </a:fld>
          </a:p>
        </p:txBody>
      </p:sp>
    </p:spTree>
  </p:cSld>
  <p:transition spd="med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7:01:14Z</dcterms:modified>
  <cp:revision>194</cp:revision>
  <dc:subject>Chapter 17</dc:subject>
  <dc:title>Acid-Base Equilibria</dc:title>
</cp:coreProperties>
</file>